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074-33A2-4279-B727-B65784D4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72A-6413-44AC-9E35-B2B1045A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002-9C5A-423C-ACCB-60CB5F85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F56-B3A2-407D-B42E-5B28CAD8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5D4-132E-4C5D-B0DB-A77FDFF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BA0-D240-48A0-AEBA-77C1FC8D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668-E077-40B6-B57F-840B3CA6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F62-0ACD-431C-AA75-12DEFAAF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170-9520-4D2C-9F69-280EEB3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B65-BAA1-4128-9EF9-6A0B6DB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F51-057C-43D7-8AFD-865997D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EBF-17D0-4EAF-85E2-36FE4789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00D6-B283-4820-8F03-699DF4FA9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 DES FORCES EN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9440" y="1600200"/>
            <a:ext cx="1125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hé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600" y="2747880"/>
            <a:ext cx="14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op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4572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572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8640" y="3429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429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286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143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8640" y="1143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286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1143000"/>
            <a:ext cx="701028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640" y="3809880"/>
            <a:ext cx="90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érê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4957920"/>
            <a:ext cx="108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5943600"/>
            <a:ext cx="139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i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6000" y="5948280"/>
            <a:ext cx="99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5400" y="5948280"/>
            <a:ext cx="129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p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8680" y="5948280"/>
            <a:ext cx="104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st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6:16Z</dcterms:modified>
  <cp:revision>72</cp:revision>
  <dc:subject/>
  <dc:title>Contrôle interne des risques</dc:title>
</cp:coreProperties>
</file>